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0.jpeg" ContentType="image/jpeg"/>
  <Override PartName="/ppt/media/image5.png" ContentType="image/png"/>
  <Override PartName="/ppt/media/image28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15.png" ContentType="image/png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907588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689040" y="746280"/>
            <a:ext cx="538488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B28DA-1463-45B4-88CC-C33C121E46B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689040" y="746280"/>
            <a:ext cx="5384880" cy="372888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B6CD0-D6AC-4AEF-9DC2-ED0583EC1CA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689040" y="746280"/>
            <a:ext cx="5384880" cy="372888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03962-F769-477E-8D27-C0A56E4F66A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689040" y="746280"/>
            <a:ext cx="5384880" cy="372888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EC2E6-8E79-4D7E-9218-25233473B51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689040" y="746280"/>
            <a:ext cx="5384880" cy="372888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1C01E-472A-4AC5-8B5E-2386A418A27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689040" y="746280"/>
            <a:ext cx="5384880" cy="372888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D5350-4FDE-4C0B-9BDF-4F19F191DBF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689040" y="746280"/>
            <a:ext cx="5384880" cy="372888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FEF80-3B89-48BD-AA0B-C726B63E4EB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0E23-8BF8-4496-950D-F31DEF04E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000" y="42278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3D3E-F472-4C01-B136-E9F7639E8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634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4CA9-EE60-4F64-B442-2FD7A667E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0964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2428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500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0964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2428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3AF0-D1FE-4DFD-A42E-2E7427745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B3E93-6E21-4435-B941-CE5435A42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CF320-5870-42BB-875A-B0CA3B9D6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BCA32-4F21-456A-8EAE-FB90C14A7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D4823-714F-4AF3-B5E2-590F66073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A0596-590B-4C17-B790-FD922BC77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95000" y="7045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9DE79-D84C-493C-8FDE-56B638319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A8C3A-54F9-4578-9961-A5C5EE62D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75A8-6A82-42F4-A311-6B0C85E12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634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772E1-09F3-4F7F-AE68-B8AB049C0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FFD1D-D17E-4DE0-BBE2-DF4455FBC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5000" y="42278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1052F-48E0-44C2-88C3-1F53A9D88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0634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832A4-A37C-4697-9B35-3826F8D16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0964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2428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9500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0964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2428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D47F6-FA58-4DB2-8660-B81C09359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C2A99-B498-4DA0-816D-B47D77AB3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50C03-6F97-4D1D-B794-608BA7CEB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69343-CCD4-4D25-8848-3EBAAA1E2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3DB07-2349-44E9-B5B9-D75C5EB42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C28CB-97E5-4D07-94AD-FE368F944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A7AA-2715-4F33-A2DF-103A7C0A9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95000" y="7045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02572-D573-4FEB-AEB5-98C250FBA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0E3FD-BC70-4F96-8221-E4A2145C2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0634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54CD7-7DD0-415F-9490-2821A0327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26AB5-B0DE-42A5-AC9A-60F61226B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95000" y="42278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C9866-98F9-4CC0-A4B2-3372F21B7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0634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B6BB9-23E2-41D4-8563-CC05E7893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50964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52428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9500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50964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52428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7CAEF-4071-4D06-9B59-1A12D4680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23EFE-6F57-4712-AF71-6DF86CB33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7140C-B001-4327-B88C-21528060B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C36E9-D3F0-4767-A684-158377DF5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3066-A171-4224-AC6A-C149C206A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709CD-3A8C-40F6-959A-522263B03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765E4-C060-47E1-882D-0BF465C5F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95000" y="7045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51C6A-AE03-46D4-8948-FA8AF8DD3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F9011-E140-49FB-B976-D31BDB32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0634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9779E-D718-41A1-973B-9FB04C01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3559B-0C7B-4445-B30B-1966B839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95000" y="42278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39484-A383-48FF-B173-018D89B5C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0634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4B18E-7EA7-4B98-B331-BABC1EE27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50964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52428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9500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50964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52428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9B623-ACA5-49F3-95B1-1AFEC34BF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4555-7751-4FA9-96EB-68497984D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95000" y="7045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236D-D92A-417D-B013-804400750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3D11-E8E4-4F2B-B2E2-D879B8639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634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57EC-758B-4F70-B818-CA961176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30B9-C640-4B98-AD98-77137E76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11160" y="-7920"/>
            <a:ext cx="992844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746600" y="-6480"/>
            <a:ext cx="515952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3DE81-36CA-42C2-B621-6A1EB7D05FCA}" type="datetime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889000" y="6356520"/>
            <a:ext cx="3632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84920" y="6356520"/>
            <a:ext cx="82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E4DB3-CB2A-4054-9522-D8AF32026EBF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20520" y="203040"/>
            <a:ext cx="9946080" cy="648000"/>
            <a:chOff x="-20520" y="203040"/>
            <a:chExt cx="9946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20520" y="203040"/>
              <a:ext cx="9928080" cy="648000"/>
              <a:chOff x="-20520" y="203040"/>
              <a:chExt cx="992808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-2160" y="203040"/>
                <a:ext cx="990972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20160" y="491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4400" y="246600"/>
              <a:ext cx="9939960" cy="564480"/>
              <a:chOff x="-14400" y="246600"/>
              <a:chExt cx="9939960" cy="56448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1800" y="246600"/>
                <a:ext cx="9923760" cy="56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4040" y="5353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11160" y="-7920"/>
            <a:ext cx="992844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746600" y="-6480"/>
            <a:ext cx="515952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20520" y="203040"/>
            <a:ext cx="9946080" cy="648000"/>
            <a:chOff x="-20520" y="203040"/>
            <a:chExt cx="9946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20520" y="203040"/>
              <a:ext cx="9928080" cy="648000"/>
              <a:chOff x="-20520" y="203040"/>
              <a:chExt cx="992808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-2160" y="203040"/>
                <a:ext cx="990972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20160" y="491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4400" y="246600"/>
              <a:ext cx="9939960" cy="564480"/>
              <a:chOff x="-14400" y="246600"/>
              <a:chExt cx="9939960" cy="56448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1800" y="246600"/>
                <a:ext cx="9923760" cy="56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4040" y="5353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807FD-6659-4E6B-B506-B33F52BFC9A8}" type="datetime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889000" y="6356520"/>
            <a:ext cx="3632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584920" y="6356520"/>
            <a:ext cx="82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DC580-AF21-4D5E-99B9-7ED44A3C756D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11160" y="-7920"/>
            <a:ext cx="992844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746600" y="-6480"/>
            <a:ext cx="515952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20520" y="203040"/>
            <a:ext cx="9946080" cy="648000"/>
            <a:chOff x="-20520" y="203040"/>
            <a:chExt cx="9946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20520" y="203040"/>
              <a:ext cx="9928080" cy="648000"/>
              <a:chOff x="-20520" y="203040"/>
              <a:chExt cx="992808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-2160" y="203040"/>
                <a:ext cx="990972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20160" y="491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4400" y="246600"/>
              <a:ext cx="9939960" cy="564480"/>
              <a:chOff x="-14400" y="246600"/>
              <a:chExt cx="9939960" cy="56448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1800" y="246600"/>
                <a:ext cx="9923760" cy="56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4040" y="5353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49506-7DDC-43EC-9CF0-4D6CD2F1E6A6}" type="datetime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889000" y="6356520"/>
            <a:ext cx="3632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8584920" y="6356520"/>
            <a:ext cx="82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B06E4-3ED9-4869-B1A9-FCE890DE14DC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428640" y="1107360"/>
            <a:ext cx="569592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670600" y="5358960"/>
            <a:ext cx="1681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10800" y="5815440"/>
            <a:ext cx="992844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746600" y="6219000"/>
            <a:ext cx="515952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C764B-0417-4983-88C4-027A131717CD}" type="datetime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889000" y="6356520"/>
            <a:ext cx="3632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749800" y="6356520"/>
            <a:ext cx="6606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FA6FF-C56C-48EF-A630-5C8B50BACF36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4"/>
          <p:cNvSpPr/>
          <p:nvPr/>
        </p:nvSpPr>
        <p:spPr>
          <a:xfrm>
            <a:off x="465120" y="2546280"/>
            <a:ext cx="9056880" cy="12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ef0f7"/>
                </a:solidFill>
                <a:latin typeface="Times New Roman"/>
                <a:ea typeface="Times New Roman"/>
              </a:rPr>
              <a:t>ПРОГНОЗ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ef0f7"/>
                </a:solidFill>
                <a:latin typeface="Times New Roman"/>
                <a:ea typeface="Times New Roman"/>
              </a:rPr>
              <a:t>СОЦИАЛЬНО – ЭКОНОМИЧЕСКОГО РАЗВИТИЯ КЫЗЫЛСКОГО КОЖУУНА РЕСПУБЛИКИ ТЫ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ef0f7"/>
                </a:solidFill>
                <a:latin typeface="Times New Roman"/>
                <a:ea typeface="Times New Roman"/>
              </a:rPr>
              <a:t>на 2020 год и плановый период 2021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ef0f7"/>
                </a:solidFill>
                <a:latin typeface="Times New Roman"/>
                <a:ea typeface="Times New Roman"/>
              </a:rPr>
              <a:t>и 2022 год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 Box 2"/>
          <p:cNvSpPr/>
          <p:nvPr/>
        </p:nvSpPr>
        <p:spPr>
          <a:xfrm>
            <a:off x="2346480" y="536400"/>
            <a:ext cx="621972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ДМИНИСТРАЦИЯ  КЫЗЫЛСКОГО  КОЖУУ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Рисунок 6" descr=""/>
          <p:cNvPicPr/>
          <p:nvPr/>
        </p:nvPicPr>
        <p:blipFill>
          <a:blip r:embed="rId1"/>
          <a:stretch/>
        </p:blipFill>
        <p:spPr>
          <a:xfrm>
            <a:off x="838080" y="130320"/>
            <a:ext cx="109404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Группа 10"/>
          <p:cNvGrpSpPr/>
          <p:nvPr/>
        </p:nvGrpSpPr>
        <p:grpSpPr>
          <a:xfrm>
            <a:off x="1400040" y="290520"/>
            <a:ext cx="4710240" cy="593640"/>
            <a:chOff x="1400040" y="290520"/>
            <a:chExt cx="4710240" cy="593640"/>
          </a:xfrm>
        </p:grpSpPr>
        <p:sp>
          <p:nvSpPr>
            <p:cNvPr id="269" name="Прямая соединительная линия 12"/>
            <p:cNvSpPr/>
            <p:nvPr/>
          </p:nvSpPr>
          <p:spPr>
            <a:xfrm>
              <a:off x="1400040" y="290520"/>
              <a:ext cx="4710240" cy="0"/>
            </a:xfrm>
            <a:prstGeom prst="line">
              <a:avLst/>
            </a:prstGeom>
            <a:ln w="25560">
              <a:solidFill>
                <a:srgbClr val="10cf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Прямая соединительная линия 13"/>
            <p:cNvSpPr/>
            <p:nvPr/>
          </p:nvSpPr>
          <p:spPr>
            <a:xfrm>
              <a:off x="1400040" y="884160"/>
              <a:ext cx="4710240" cy="0"/>
            </a:xfrm>
            <a:prstGeom prst="line">
              <a:avLst/>
            </a:prstGeom>
            <a:ln w="25560">
              <a:solidFill>
                <a:srgbClr val="10cf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1" name="Text Box 2"/>
          <p:cNvSpPr/>
          <p:nvPr/>
        </p:nvSpPr>
        <p:spPr>
          <a:xfrm>
            <a:off x="1320840" y="446040"/>
            <a:ext cx="478944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циально-экономические показател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361800" y="5003640"/>
          <a:ext cx="3853080" cy="1138320"/>
        </p:xfrm>
        <a:graphic>
          <a:graphicData uri="http://schemas.openxmlformats.org/drawingml/2006/table">
            <a:tbl>
              <a:tblPr/>
              <a:tblGrid>
                <a:gridCol w="1152720"/>
                <a:gridCol w="887400"/>
                <a:gridCol w="907920"/>
                <a:gridCol w="905040"/>
              </a:tblGrid>
              <a:tr h="509760"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2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840">
                <a:tc>
                  <a:txBody>
                    <a:bodyPr lIns="45000" rIns="4500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ясо,  тон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4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9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2720">
                <a:tc>
                  <a:txBody>
                    <a:bodyPr lIns="45000" rIns="4500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локо, тон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40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1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73" name="Прямоугольник 10"/>
          <p:cNvSpPr/>
          <p:nvPr/>
        </p:nvSpPr>
        <p:spPr>
          <a:xfrm>
            <a:off x="6384960" y="347760"/>
            <a:ext cx="337968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ЕЛЬКОЕ ХОЗЯЙСТВ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4" name="Диаграмма 11" descr=""/>
          <p:cNvPicPr/>
          <p:nvPr/>
        </p:nvPicPr>
        <p:blipFill>
          <a:blip r:embed="rId1"/>
          <a:stretch/>
        </p:blipFill>
        <p:spPr>
          <a:xfrm>
            <a:off x="-6480" y="1122480"/>
            <a:ext cx="10266480" cy="3151080"/>
          </a:xfrm>
          <a:prstGeom prst="rect">
            <a:avLst/>
          </a:prstGeom>
          <a:ln w="0">
            <a:noFill/>
          </a:ln>
        </p:spPr>
      </p:pic>
      <p:sp>
        <p:nvSpPr>
          <p:cNvPr id="275" name="Прямоугольник 1"/>
          <p:cNvSpPr/>
          <p:nvPr/>
        </p:nvSpPr>
        <p:spPr>
          <a:xfrm>
            <a:off x="4700520" y="4992840"/>
            <a:ext cx="2094120" cy="170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2303e"/>
                </a:solidFill>
                <a:latin typeface="Times New Roman"/>
                <a:ea typeface="Times New Roman"/>
              </a:rPr>
              <a:t>2018 го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303e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2303e"/>
                </a:solidFill>
                <a:latin typeface="Times New Roman"/>
                <a:ea typeface="Times New Roman"/>
              </a:rPr>
              <a:t>КРС – 1730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2303e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2303e"/>
                </a:solidFill>
                <a:latin typeface="Times New Roman"/>
                <a:ea typeface="Times New Roman"/>
              </a:rPr>
              <a:t>МРС – 12020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Прямоугольник 15"/>
          <p:cNvSpPr/>
          <p:nvPr/>
        </p:nvSpPr>
        <p:spPr>
          <a:xfrm>
            <a:off x="5688000" y="4408560"/>
            <a:ext cx="3541680" cy="474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Times New Roman"/>
                <a:ea typeface="Times New Roman"/>
              </a:rPr>
              <a:t>Поголовье скота, голо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Стрелка вправо 2"/>
          <p:cNvSpPr/>
          <p:nvPr/>
        </p:nvSpPr>
        <p:spPr>
          <a:xfrm>
            <a:off x="6781680" y="5576760"/>
            <a:ext cx="1121040" cy="560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Прямоугольник 16"/>
          <p:cNvSpPr/>
          <p:nvPr/>
        </p:nvSpPr>
        <p:spPr>
          <a:xfrm>
            <a:off x="7934400" y="5032440"/>
            <a:ext cx="1809720" cy="1623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2303e"/>
                </a:solidFill>
                <a:latin typeface="Times New Roman"/>
                <a:ea typeface="Times New Roman"/>
              </a:rPr>
              <a:t>2022 го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2303e"/>
                </a:solidFill>
                <a:latin typeface="Times New Roman"/>
                <a:ea typeface="Times New Roman"/>
              </a:rPr>
              <a:t>КРС – 1833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2303e"/>
                </a:solidFill>
                <a:latin typeface="Times New Roman"/>
                <a:ea typeface="Times New Roman"/>
              </a:rPr>
              <a:t>МРС – 12499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Picture 45" descr="http://www.pottypancakes.co.uk/wp-content/uploads/2017/04/meat-vector.png"/>
          <p:cNvPicPr/>
          <p:nvPr/>
        </p:nvPicPr>
        <p:blipFill>
          <a:blip r:embed="rId2"/>
          <a:stretch/>
        </p:blipFill>
        <p:spPr>
          <a:xfrm>
            <a:off x="4905360" y="5707080"/>
            <a:ext cx="316080" cy="2919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49" descr="https://cdn3.vectorstock.com/i/1000x1000/57/32/goat-vector-5085732.jpg"/>
          <p:cNvPicPr/>
          <p:nvPr/>
        </p:nvPicPr>
        <p:blipFill>
          <a:blip r:embed="rId3"/>
          <a:srcRect l="0" t="0" r="0" b="9390"/>
          <a:stretch/>
        </p:blipFill>
        <p:spPr>
          <a:xfrm>
            <a:off x="4929120" y="6108840"/>
            <a:ext cx="366840" cy="266400"/>
          </a:xfrm>
          <a:prstGeom prst="rect">
            <a:avLst/>
          </a:prstGeom>
          <a:ln w="0">
            <a:noFill/>
          </a:ln>
        </p:spPr>
      </p:pic>
      <p:sp>
        <p:nvSpPr>
          <p:cNvPr id="281" name="Номер слайда 4"/>
          <p:cNvSpPr/>
          <p:nvPr/>
        </p:nvSpPr>
        <p:spPr>
          <a:xfrm>
            <a:off x="8585280" y="6356520"/>
            <a:ext cx="82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6DDCA-83A1-421A-8C01-552BCCE48553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2" name="Рисунок 17" descr=""/>
          <p:cNvPicPr/>
          <p:nvPr/>
        </p:nvPicPr>
        <p:blipFill>
          <a:blip r:embed="rId4"/>
          <a:stretch/>
        </p:blipFill>
        <p:spPr>
          <a:xfrm>
            <a:off x="577800" y="184320"/>
            <a:ext cx="784440" cy="97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Диаграмма 4" descr=""/>
          <p:cNvPicPr/>
          <p:nvPr/>
        </p:nvPicPr>
        <p:blipFill>
          <a:blip r:embed="rId1"/>
          <a:stretch/>
        </p:blipFill>
        <p:spPr>
          <a:xfrm>
            <a:off x="450720" y="2292480"/>
            <a:ext cx="4492800" cy="3919320"/>
          </a:xfrm>
          <a:prstGeom prst="rect">
            <a:avLst/>
          </a:prstGeom>
          <a:ln w="0">
            <a:noFill/>
          </a:ln>
        </p:spPr>
      </p:pic>
      <p:sp>
        <p:nvSpPr>
          <p:cNvPr id="284" name="Прямоугольник 5"/>
          <p:cNvSpPr/>
          <p:nvPr/>
        </p:nvSpPr>
        <p:spPr>
          <a:xfrm>
            <a:off x="674640" y="1424160"/>
            <a:ext cx="337968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ТРОИТЕЛЬСТВ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5" name="Группа 10"/>
          <p:cNvGrpSpPr/>
          <p:nvPr/>
        </p:nvGrpSpPr>
        <p:grpSpPr>
          <a:xfrm>
            <a:off x="1400040" y="290520"/>
            <a:ext cx="4710240" cy="593640"/>
            <a:chOff x="1400040" y="290520"/>
            <a:chExt cx="4710240" cy="593640"/>
          </a:xfrm>
        </p:grpSpPr>
        <p:sp>
          <p:nvSpPr>
            <p:cNvPr id="286" name="Прямая соединительная линия 8"/>
            <p:cNvSpPr/>
            <p:nvPr/>
          </p:nvSpPr>
          <p:spPr>
            <a:xfrm>
              <a:off x="1400040" y="290520"/>
              <a:ext cx="4710240" cy="0"/>
            </a:xfrm>
            <a:prstGeom prst="line">
              <a:avLst/>
            </a:prstGeom>
            <a:ln w="25560">
              <a:solidFill>
                <a:srgbClr val="10cf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Прямая соединительная линия 9"/>
            <p:cNvSpPr/>
            <p:nvPr/>
          </p:nvSpPr>
          <p:spPr>
            <a:xfrm>
              <a:off x="1400040" y="884160"/>
              <a:ext cx="4710240" cy="0"/>
            </a:xfrm>
            <a:prstGeom prst="line">
              <a:avLst/>
            </a:prstGeom>
            <a:ln w="25560">
              <a:solidFill>
                <a:srgbClr val="10cf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8" name="Text Box 2"/>
          <p:cNvSpPr/>
          <p:nvPr/>
        </p:nvSpPr>
        <p:spPr>
          <a:xfrm>
            <a:off x="1320840" y="446040"/>
            <a:ext cx="478944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циально-экономические показател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9" name="Picture 2" descr="https://pbs.twimg.com/media/DYzvG6kWAAA4ZKv.png:large"/>
          <p:cNvPicPr/>
          <p:nvPr/>
        </p:nvPicPr>
        <p:blipFill>
          <a:blip r:embed="rId2"/>
          <a:stretch/>
        </p:blipFill>
        <p:spPr>
          <a:xfrm>
            <a:off x="5318280" y="2523960"/>
            <a:ext cx="4206600" cy="3657600"/>
          </a:xfrm>
          <a:prstGeom prst="rect">
            <a:avLst/>
          </a:prstGeom>
          <a:ln w="0">
            <a:noFill/>
          </a:ln>
        </p:spPr>
      </p:pic>
      <p:sp>
        <p:nvSpPr>
          <p:cNvPr id="290" name="Номер слайда 12"/>
          <p:cNvSpPr/>
          <p:nvPr/>
        </p:nvSpPr>
        <p:spPr>
          <a:xfrm>
            <a:off x="8585280" y="6356520"/>
            <a:ext cx="82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5CCB9-6B21-417A-B876-B2ED5A0166F0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1" name="Рисунок 11" descr=""/>
          <p:cNvPicPr/>
          <p:nvPr/>
        </p:nvPicPr>
        <p:blipFill>
          <a:blip r:embed="rId3"/>
          <a:stretch/>
        </p:blipFill>
        <p:spPr>
          <a:xfrm>
            <a:off x="577800" y="184320"/>
            <a:ext cx="784440" cy="97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Группа 32"/>
          <p:cNvGrpSpPr/>
          <p:nvPr/>
        </p:nvGrpSpPr>
        <p:grpSpPr>
          <a:xfrm>
            <a:off x="-176040" y="1160640"/>
            <a:ext cx="9940680" cy="5589360"/>
            <a:chOff x="-176040" y="1160640"/>
            <a:chExt cx="9940680" cy="5589360"/>
          </a:xfrm>
        </p:grpSpPr>
        <p:pic>
          <p:nvPicPr>
            <p:cNvPr id="293" name="Объект 37" descr=""/>
            <p:cNvPicPr/>
            <p:nvPr/>
          </p:nvPicPr>
          <p:blipFill>
            <a:blip r:embed="rId1"/>
            <a:stretch/>
          </p:blipFill>
          <p:spPr>
            <a:xfrm>
              <a:off x="633240" y="1828440"/>
              <a:ext cx="9131400" cy="4921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94" name="Группа 54"/>
            <p:cNvGrpSpPr/>
            <p:nvPr/>
          </p:nvGrpSpPr>
          <p:grpSpPr>
            <a:xfrm>
              <a:off x="4216680" y="2617200"/>
              <a:ext cx="3880440" cy="743760"/>
              <a:chOff x="4216680" y="2617200"/>
              <a:chExt cx="3880440" cy="743760"/>
            </a:xfrm>
          </p:grpSpPr>
          <p:grpSp>
            <p:nvGrpSpPr>
              <p:cNvPr id="295" name="Group 32"/>
              <p:cNvGrpSpPr/>
              <p:nvPr/>
            </p:nvGrpSpPr>
            <p:grpSpPr>
              <a:xfrm>
                <a:off x="4216680" y="2720520"/>
                <a:ext cx="3880440" cy="640440"/>
                <a:chOff x="4216680" y="2720520"/>
                <a:chExt cx="3880440" cy="640440"/>
              </a:xfrm>
            </p:grpSpPr>
            <p:sp>
              <p:nvSpPr>
                <p:cNvPr id="296" name="TextBox 10"/>
                <p:cNvSpPr/>
                <p:nvPr/>
              </p:nvSpPr>
              <p:spPr>
                <a:xfrm>
                  <a:off x="5712480" y="2720520"/>
                  <a:ext cx="23846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2303e"/>
                      </a:solidFill>
                      <a:latin typeface="Times New Roman"/>
                      <a:ea typeface="Times New Roman"/>
                    </a:rPr>
                    <a:t>Финансовые услуги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97" name="TextBox 59"/>
                <p:cNvSpPr/>
                <p:nvPr/>
              </p:nvSpPr>
              <p:spPr>
                <a:xfrm>
                  <a:off x="4216680" y="3229200"/>
                  <a:ext cx="2184480" cy="13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01"/>
                    </a:spcBef>
                    <a:tabLst>
                      <a:tab algn="l" pos="0"/>
                      <a:tab algn="l" pos="743040"/>
                      <a:tab algn="l" pos="1486080"/>
                      <a:tab algn="l" pos="2228760"/>
                      <a:tab algn="l" pos="2971800"/>
                      <a:tab algn="l" pos="3714840"/>
                      <a:tab algn="l" pos="4457880"/>
                      <a:tab algn="l" pos="5200560"/>
                      <a:tab algn="l" pos="5943600"/>
                      <a:tab algn="l" pos="6686640"/>
                      <a:tab algn="l" pos="7429680"/>
                      <a:tab algn="l" pos="8172360"/>
                      <a:tab algn="l" pos="8915400"/>
                      <a:tab algn="l" pos="9658440"/>
                      <a:tab algn="l" pos="1040148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98" name="Группа 62"/>
              <p:cNvGrpSpPr/>
              <p:nvPr/>
            </p:nvGrpSpPr>
            <p:grpSpPr>
              <a:xfrm>
                <a:off x="4991040" y="2617200"/>
                <a:ext cx="420840" cy="324360"/>
                <a:chOff x="4991040" y="2617200"/>
                <a:chExt cx="420840" cy="324360"/>
              </a:xfrm>
            </p:grpSpPr>
            <p:sp>
              <p:nvSpPr>
                <p:cNvPr id="299" name="Oval 57"/>
                <p:cNvSpPr/>
                <p:nvPr/>
              </p:nvSpPr>
              <p:spPr>
                <a:xfrm>
                  <a:off x="4991040" y="2617200"/>
                  <a:ext cx="420840" cy="324360"/>
                </a:xfrm>
                <a:prstGeom prst="ellipse">
                  <a:avLst/>
                </a:prstGeom>
                <a:solidFill>
                  <a:srgbClr val="004e6d"/>
                </a:solidFill>
                <a:ln w="9360">
                  <a:solidFill>
                    <a:srgbClr val="599545"/>
                  </a:solidFill>
                  <a:miter/>
                </a:ln>
                <a:effectLst>
                  <a:outerShdw dist="38160" dir="5400000" blurRad="0" rotWithShape="0">
                    <a:srgbClr val="24421a">
                      <a:alpha val="4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00" name="Freeform 69"/>
                <p:cNvSpPr/>
                <p:nvPr/>
              </p:nvSpPr>
              <p:spPr>
                <a:xfrm>
                  <a:off x="5109480" y="2679120"/>
                  <a:ext cx="194760" cy="262440"/>
                </a:xfrm>
                <a:prstGeom prst="pie">
                  <a:avLst/>
                </a:prstGeom>
                <a:solidFill>
                  <a:srgbClr val="8a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37080" bIns="37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pic>
          <p:nvPicPr>
            <p:cNvPr id="301" name="Рисунок 19" descr=""/>
            <p:cNvPicPr/>
            <p:nvPr/>
          </p:nvPicPr>
          <p:blipFill>
            <a:blip r:embed="rId2"/>
            <a:stretch/>
          </p:blipFill>
          <p:spPr>
            <a:xfrm>
              <a:off x="1197720" y="4006800"/>
              <a:ext cx="342360" cy="34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TextBox 20"/>
            <p:cNvSpPr/>
            <p:nvPr/>
          </p:nvSpPr>
          <p:spPr>
            <a:xfrm>
              <a:off x="290160" y="4320360"/>
              <a:ext cx="1418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2303e"/>
                  </a:solidFill>
                  <a:latin typeface="Times New Roman"/>
                  <a:ea typeface="Times New Roman"/>
                </a:rPr>
                <a:t>Обучение предпринимателе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3" name="Group 33"/>
            <p:cNvGrpSpPr/>
            <p:nvPr/>
          </p:nvGrpSpPr>
          <p:grpSpPr>
            <a:xfrm>
              <a:off x="-176040" y="2458080"/>
              <a:ext cx="2333520" cy="1240560"/>
              <a:chOff x="-176040" y="2458080"/>
              <a:chExt cx="2333520" cy="1240560"/>
            </a:xfrm>
          </p:grpSpPr>
          <p:sp>
            <p:nvSpPr>
              <p:cNvPr id="304" name="TextBox 52"/>
              <p:cNvSpPr/>
              <p:nvPr/>
            </p:nvSpPr>
            <p:spPr>
              <a:xfrm>
                <a:off x="417240" y="2458080"/>
                <a:ext cx="133560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2303e"/>
                    </a:solidFill>
                    <a:latin typeface="Times New Roman"/>
                    <a:ea typeface="Times New Roman"/>
                  </a:rPr>
                  <a:t>Размещение и обучение бизнеса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TextBox 53"/>
              <p:cNvSpPr/>
              <p:nvPr/>
            </p:nvSpPr>
            <p:spPr>
              <a:xfrm>
                <a:off x="-176040" y="3560760"/>
                <a:ext cx="2333520" cy="13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201"/>
                  </a:spcBef>
                  <a:tabLst>
                    <a:tab algn="l" pos="0"/>
                    <a:tab algn="l" pos="743040"/>
                    <a:tab algn="l" pos="1486080"/>
                    <a:tab algn="l" pos="2228760"/>
                    <a:tab algn="l" pos="2971800"/>
                    <a:tab algn="l" pos="3714840"/>
                    <a:tab algn="l" pos="4457880"/>
                    <a:tab algn="l" pos="5200560"/>
                    <a:tab algn="l" pos="5943600"/>
                    <a:tab algn="l" pos="6686640"/>
                    <a:tab algn="l" pos="7429680"/>
                    <a:tab algn="l" pos="8172360"/>
                    <a:tab algn="l" pos="8915400"/>
                    <a:tab algn="l" pos="9658440"/>
                    <a:tab algn="l" pos="1040148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06" name="TextBox 28"/>
            <p:cNvSpPr/>
            <p:nvPr/>
          </p:nvSpPr>
          <p:spPr>
            <a:xfrm>
              <a:off x="2157480" y="5972400"/>
              <a:ext cx="197964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2303e"/>
                  </a:solidFill>
                  <a:latin typeface="Times New Roman"/>
                  <a:ea typeface="Times New Roman"/>
                </a:rPr>
                <a:t>Информирование предпринимателе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Oval 72"/>
            <p:cNvSpPr/>
            <p:nvPr/>
          </p:nvSpPr>
          <p:spPr>
            <a:xfrm>
              <a:off x="1600560" y="5104080"/>
              <a:ext cx="293400" cy="348840"/>
            </a:xfrm>
            <a:prstGeom prst="ellipse">
              <a:avLst/>
            </a:prstGeom>
            <a:solidFill>
              <a:srgbClr val="0076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Freeform 45"/>
            <p:cNvSpPr/>
            <p:nvPr/>
          </p:nvSpPr>
          <p:spPr>
            <a:xfrm>
              <a:off x="1665720" y="5210280"/>
              <a:ext cx="164880" cy="176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37080" bIns="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TextBox 33"/>
            <p:cNvSpPr/>
            <p:nvPr/>
          </p:nvSpPr>
          <p:spPr>
            <a:xfrm>
              <a:off x="5852160" y="3750840"/>
              <a:ext cx="343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2303e"/>
                  </a:solidFill>
                  <a:latin typeface="Times New Roman"/>
                  <a:ea typeface="Times New Roman"/>
                </a:rPr>
                <a:t>Выход на международные рынки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Oval 72"/>
            <p:cNvSpPr/>
            <p:nvPr/>
          </p:nvSpPr>
          <p:spPr>
            <a:xfrm>
              <a:off x="3147120" y="4908960"/>
              <a:ext cx="294840" cy="301320"/>
            </a:xfrm>
            <a:prstGeom prst="ellipse">
              <a:avLst/>
            </a:prstGeom>
            <a:solidFill>
              <a:srgbClr val="4fc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TextBox 35"/>
            <p:cNvSpPr/>
            <p:nvPr/>
          </p:nvSpPr>
          <p:spPr>
            <a:xfrm>
              <a:off x="290160" y="5398920"/>
              <a:ext cx="1866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2303e"/>
                  </a:solidFill>
                  <a:latin typeface="Times New Roman"/>
                  <a:ea typeface="Times New Roman"/>
                </a:rPr>
                <a:t>Упрощение процедур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2303e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1400" spc="-1" strike="noStrike">
                  <a:solidFill>
                    <a:srgbClr val="02303e"/>
                  </a:solidFill>
                  <a:latin typeface="Times New Roman"/>
                  <a:ea typeface="Times New Roman"/>
                </a:rPr>
                <a:t>ведения бизнеса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TextBox 44"/>
            <p:cNvSpPr/>
            <p:nvPr/>
          </p:nvSpPr>
          <p:spPr>
            <a:xfrm>
              <a:off x="85680" y="1791720"/>
              <a:ext cx="2660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2f2f2"/>
                  </a:solidFill>
                  <a:latin typeface="Times New Roman"/>
                  <a:ea typeface="Times New Roman"/>
                </a:rPr>
                <a:t>Развитие пилотных кластеров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TextBox 42"/>
            <p:cNvSpPr/>
            <p:nvPr/>
          </p:nvSpPr>
          <p:spPr>
            <a:xfrm>
              <a:off x="5394960" y="5134320"/>
              <a:ext cx="3829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2303e"/>
                  </a:solidFill>
                  <a:latin typeface="Times New Roman"/>
                  <a:ea typeface="Times New Roman"/>
                </a:rPr>
                <a:t>Поддержка малых и средний предприятий, ориентированных на экспор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TextBox 39"/>
            <p:cNvSpPr/>
            <p:nvPr/>
          </p:nvSpPr>
          <p:spPr>
            <a:xfrm>
              <a:off x="4280040" y="2077200"/>
              <a:ext cx="4241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2303e"/>
                  </a:solidFill>
                  <a:latin typeface="Times New Roman"/>
                  <a:ea typeface="Times New Roman"/>
                </a:rPr>
                <a:t>Поддержка с/х товаропроизводителе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15" name="Рисунок 1" descr=""/>
            <p:cNvPicPr/>
            <p:nvPr/>
          </p:nvPicPr>
          <p:blipFill>
            <a:blip r:embed="rId3"/>
            <a:stretch/>
          </p:blipFill>
          <p:spPr>
            <a:xfrm>
              <a:off x="2746080" y="1912680"/>
              <a:ext cx="317160" cy="32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Рисунок 51" descr=""/>
            <p:cNvPicPr/>
            <p:nvPr/>
          </p:nvPicPr>
          <p:blipFill>
            <a:blip r:embed="rId4"/>
            <a:stretch/>
          </p:blipFill>
          <p:spPr>
            <a:xfrm>
              <a:off x="4021560" y="1917720"/>
              <a:ext cx="317160" cy="32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Рисунок 2" descr=""/>
            <p:cNvPicPr/>
            <p:nvPr/>
          </p:nvPicPr>
          <p:blipFill>
            <a:blip r:embed="rId5"/>
            <a:stretch/>
          </p:blipFill>
          <p:spPr>
            <a:xfrm>
              <a:off x="4385520" y="4634280"/>
              <a:ext cx="248760" cy="2804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318" name="Прямоугольник 50"/>
            <p:cNvSpPr/>
            <p:nvPr/>
          </p:nvSpPr>
          <p:spPr>
            <a:xfrm>
              <a:off x="678960" y="1160640"/>
              <a:ext cx="506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b050"/>
                  </a:solidFill>
                  <a:latin typeface="Times New Roman"/>
                  <a:ea typeface="Times New Roman"/>
                </a:rPr>
                <a:t>Всесторонняя поддержка бизнеса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TextBox 36"/>
            <p:cNvSpPr/>
            <p:nvPr/>
          </p:nvSpPr>
          <p:spPr>
            <a:xfrm>
              <a:off x="4510080" y="6057360"/>
              <a:ext cx="418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2303e"/>
                  </a:solidFill>
                  <a:latin typeface="Times New Roman"/>
                  <a:ea typeface="Times New Roman"/>
                </a:rPr>
                <a:t>Создание инфраструктуры для бизнеса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Группа 10"/>
          <p:cNvGrpSpPr/>
          <p:nvPr/>
        </p:nvGrpSpPr>
        <p:grpSpPr>
          <a:xfrm>
            <a:off x="1400040" y="290520"/>
            <a:ext cx="4710240" cy="593640"/>
            <a:chOff x="1400040" y="290520"/>
            <a:chExt cx="4710240" cy="593640"/>
          </a:xfrm>
        </p:grpSpPr>
        <p:sp>
          <p:nvSpPr>
            <p:cNvPr id="321" name="Прямая соединительная линия 64"/>
            <p:cNvSpPr/>
            <p:nvPr/>
          </p:nvSpPr>
          <p:spPr>
            <a:xfrm>
              <a:off x="1400040" y="290520"/>
              <a:ext cx="4710240" cy="0"/>
            </a:xfrm>
            <a:prstGeom prst="line">
              <a:avLst/>
            </a:prstGeom>
            <a:ln w="25560">
              <a:solidFill>
                <a:srgbClr val="10cf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Прямая соединительная линия 65"/>
            <p:cNvSpPr/>
            <p:nvPr/>
          </p:nvSpPr>
          <p:spPr>
            <a:xfrm>
              <a:off x="1400040" y="884160"/>
              <a:ext cx="4710240" cy="0"/>
            </a:xfrm>
            <a:prstGeom prst="line">
              <a:avLst/>
            </a:prstGeom>
            <a:ln w="25560">
              <a:solidFill>
                <a:srgbClr val="10cf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3" name="Прямоугольник 66"/>
          <p:cNvSpPr/>
          <p:nvPr/>
        </p:nvSpPr>
        <p:spPr>
          <a:xfrm>
            <a:off x="6384960" y="347760"/>
            <a:ext cx="3379680" cy="10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АЗВИТИЕ МАЛОГО И СРЕДНЕГО ПРЕДПРИНИМАТЕЛЬСТ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Text Box 2"/>
          <p:cNvSpPr/>
          <p:nvPr/>
        </p:nvSpPr>
        <p:spPr>
          <a:xfrm>
            <a:off x="1320840" y="446040"/>
            <a:ext cx="478944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циально-экономические показател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Номер слайда 69"/>
          <p:cNvSpPr/>
          <p:nvPr/>
        </p:nvSpPr>
        <p:spPr>
          <a:xfrm>
            <a:off x="8585280" y="6356520"/>
            <a:ext cx="82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6B9ED-B006-488B-8993-961090B50497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6" name="Рисунок 37" descr=""/>
          <p:cNvPicPr/>
          <p:nvPr/>
        </p:nvPicPr>
        <p:blipFill>
          <a:blip r:embed="rId6"/>
          <a:stretch/>
        </p:blipFill>
        <p:spPr>
          <a:xfrm>
            <a:off x="558720" y="193680"/>
            <a:ext cx="784440" cy="97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Прямоугольник 3"/>
          <p:cNvSpPr/>
          <p:nvPr/>
        </p:nvSpPr>
        <p:spPr>
          <a:xfrm>
            <a:off x="6248520" y="349200"/>
            <a:ext cx="320976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РОВЕНЬ ЖИЗНИ НАСЕЛ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TextBox 10"/>
          <p:cNvSpPr/>
          <p:nvPr/>
        </p:nvSpPr>
        <p:spPr>
          <a:xfrm>
            <a:off x="1427040" y="1420920"/>
            <a:ext cx="73123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а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,6 раз снизить долю бедного насел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</a:t>
            </a:r>
            <a:r>
              <a:rPr b="1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0,1%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2018 году до  </a:t>
            </a:r>
            <a:r>
              <a:rPr b="1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4,1%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 2022 год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9" name="Группа 9"/>
          <p:cNvGrpSpPr/>
          <p:nvPr/>
        </p:nvGrpSpPr>
        <p:grpSpPr>
          <a:xfrm>
            <a:off x="1285920" y="576360"/>
            <a:ext cx="4813200" cy="593640"/>
            <a:chOff x="1285920" y="576360"/>
            <a:chExt cx="4813200" cy="593640"/>
          </a:xfrm>
        </p:grpSpPr>
        <p:sp>
          <p:nvSpPr>
            <p:cNvPr id="330" name="Text Box 2"/>
            <p:cNvSpPr/>
            <p:nvPr/>
          </p:nvSpPr>
          <p:spPr>
            <a:xfrm>
              <a:off x="1285920" y="576360"/>
              <a:ext cx="481320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Социально-экономические показатели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Прямая соединительная линия 7"/>
            <p:cNvSpPr/>
            <p:nvPr/>
          </p:nvSpPr>
          <p:spPr>
            <a:xfrm>
              <a:off x="1285920" y="576360"/>
              <a:ext cx="4708440" cy="0"/>
            </a:xfrm>
            <a:prstGeom prst="line">
              <a:avLst/>
            </a:prstGeom>
            <a:ln w="25560">
              <a:solidFill>
                <a:srgbClr val="10cf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Прямая соединительная линия 8"/>
            <p:cNvSpPr/>
            <p:nvPr/>
          </p:nvSpPr>
          <p:spPr>
            <a:xfrm>
              <a:off x="1285920" y="1170000"/>
              <a:ext cx="4708440" cy="0"/>
            </a:xfrm>
            <a:prstGeom prst="line">
              <a:avLst/>
            </a:prstGeom>
            <a:ln w="25560">
              <a:solidFill>
                <a:srgbClr val="10cf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33" name="Диаграмма 11" descr=""/>
          <p:cNvPicPr/>
          <p:nvPr/>
        </p:nvPicPr>
        <p:blipFill>
          <a:blip r:embed="rId1"/>
          <a:stretch/>
        </p:blipFill>
        <p:spPr>
          <a:xfrm>
            <a:off x="152280" y="2189160"/>
            <a:ext cx="9240840" cy="4492800"/>
          </a:xfrm>
          <a:prstGeom prst="rect">
            <a:avLst/>
          </a:prstGeom>
          <a:ln w="0">
            <a:noFill/>
          </a:ln>
        </p:spPr>
      </p:pic>
      <p:sp>
        <p:nvSpPr>
          <p:cNvPr id="334" name="Номер слайда 2"/>
          <p:cNvSpPr/>
          <p:nvPr/>
        </p:nvSpPr>
        <p:spPr>
          <a:xfrm>
            <a:off x="8585280" y="6356520"/>
            <a:ext cx="82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A8350-3636-4014-BE09-5D65878AE1E7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5" name="Рисунок 12" descr=""/>
          <p:cNvPicPr/>
          <p:nvPr/>
        </p:nvPicPr>
        <p:blipFill>
          <a:blip r:embed="rId2"/>
          <a:stretch/>
        </p:blipFill>
        <p:spPr>
          <a:xfrm>
            <a:off x="320760" y="330120"/>
            <a:ext cx="830160" cy="10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Прямоугольник 3"/>
          <p:cNvSpPr/>
          <p:nvPr/>
        </p:nvSpPr>
        <p:spPr>
          <a:xfrm>
            <a:off x="6248520" y="349200"/>
            <a:ext cx="320976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РОВЕНЬ ЖИЗНИ НАСЕЛ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TextBox 10"/>
          <p:cNvSpPr/>
          <p:nvPr/>
        </p:nvSpPr>
        <p:spPr>
          <a:xfrm>
            <a:off x="1427040" y="1420920"/>
            <a:ext cx="73123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а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,6 раз снизить долю бедного насел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</a:t>
            </a:r>
            <a:r>
              <a:rPr b="1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0,1%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2018 году до  </a:t>
            </a:r>
            <a:r>
              <a:rPr b="1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4,1%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 2022 год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8" name="Группа 9"/>
          <p:cNvGrpSpPr/>
          <p:nvPr/>
        </p:nvGrpSpPr>
        <p:grpSpPr>
          <a:xfrm>
            <a:off x="1285920" y="576360"/>
            <a:ext cx="4813200" cy="593640"/>
            <a:chOff x="1285920" y="576360"/>
            <a:chExt cx="4813200" cy="593640"/>
          </a:xfrm>
        </p:grpSpPr>
        <p:sp>
          <p:nvSpPr>
            <p:cNvPr id="339" name="Text Box 2"/>
            <p:cNvSpPr/>
            <p:nvPr/>
          </p:nvSpPr>
          <p:spPr>
            <a:xfrm>
              <a:off x="1285920" y="576360"/>
              <a:ext cx="481320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Социально-экономические показатели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Прямая соединительная линия 7"/>
            <p:cNvSpPr/>
            <p:nvPr/>
          </p:nvSpPr>
          <p:spPr>
            <a:xfrm>
              <a:off x="1285920" y="576360"/>
              <a:ext cx="4708440" cy="0"/>
            </a:xfrm>
            <a:prstGeom prst="line">
              <a:avLst/>
            </a:prstGeom>
            <a:ln w="25560">
              <a:solidFill>
                <a:srgbClr val="10cf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Прямая соединительная линия 8"/>
            <p:cNvSpPr/>
            <p:nvPr/>
          </p:nvSpPr>
          <p:spPr>
            <a:xfrm>
              <a:off x="1285920" y="1170000"/>
              <a:ext cx="4708440" cy="0"/>
            </a:xfrm>
            <a:prstGeom prst="line">
              <a:avLst/>
            </a:prstGeom>
            <a:ln w="25560">
              <a:solidFill>
                <a:srgbClr val="10cf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42" name="Диаграмма 18" descr=""/>
          <p:cNvPicPr/>
          <p:nvPr/>
        </p:nvPicPr>
        <p:blipFill>
          <a:blip r:embed="rId1"/>
          <a:stretch/>
        </p:blipFill>
        <p:spPr>
          <a:xfrm>
            <a:off x="-6480" y="2212920"/>
            <a:ext cx="9918720" cy="4469040"/>
          </a:xfrm>
          <a:prstGeom prst="rect">
            <a:avLst/>
          </a:prstGeom>
          <a:ln w="0">
            <a:noFill/>
          </a:ln>
        </p:spPr>
      </p:pic>
      <p:sp>
        <p:nvSpPr>
          <p:cNvPr id="343" name="Номер слайда 2"/>
          <p:cNvSpPr/>
          <p:nvPr/>
        </p:nvSpPr>
        <p:spPr>
          <a:xfrm>
            <a:off x="8585280" y="6356520"/>
            <a:ext cx="82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B54D4-6987-4D2D-90B1-D70DB3A344B0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4" name="Рисунок 12" descr=""/>
          <p:cNvPicPr/>
          <p:nvPr/>
        </p:nvPicPr>
        <p:blipFill>
          <a:blip r:embed="rId2"/>
          <a:stretch/>
        </p:blipFill>
        <p:spPr>
          <a:xfrm>
            <a:off x="320760" y="330120"/>
            <a:ext cx="830160" cy="10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роекты дорог, экономики, СМСП, с/х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495000" y="1934640"/>
            <a:ext cx="8915400" cy="4389480"/>
          </a:xfrm>
          <a:prstGeom prst="rect">
            <a:avLst/>
          </a:prstGeom>
          <a:ln w="0">
            <a:noFill/>
          </a:ln>
        </p:spPr>
      </p:pic>
      <p:sp>
        <p:nvSpPr>
          <p:cNvPr id="347" name="Номер слайда 3"/>
          <p:cNvSpPr/>
          <p:nvPr/>
        </p:nvSpPr>
        <p:spPr>
          <a:xfrm>
            <a:off x="8585280" y="6356520"/>
            <a:ext cx="82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4A416-3D1A-46B2-B633-236A2428A372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TextBox 7" descr=""/>
          <p:cNvPicPr/>
          <p:nvPr/>
        </p:nvPicPr>
        <p:blipFill>
          <a:blip r:embed="rId1"/>
          <a:stretch/>
        </p:blipFill>
        <p:spPr>
          <a:xfrm>
            <a:off x="360360" y="2651040"/>
            <a:ext cx="9161640" cy="914400"/>
          </a:xfrm>
          <a:prstGeom prst="rect">
            <a:avLst/>
          </a:prstGeom>
          <a:ln w="0">
            <a:noFill/>
          </a:ln>
        </p:spPr>
      </p:pic>
      <p:sp>
        <p:nvSpPr>
          <p:cNvPr id="349" name="Text Box 2"/>
          <p:cNvSpPr/>
          <p:nvPr/>
        </p:nvSpPr>
        <p:spPr>
          <a:xfrm>
            <a:off x="1260360" y="536400"/>
            <a:ext cx="622008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ДМИНИСТРАЦИЯ КЫЗЫЛСКОГО КОЖУУ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Прямая соединительная линия 10"/>
          <p:cNvSpPr/>
          <p:nvPr/>
        </p:nvSpPr>
        <p:spPr>
          <a:xfrm>
            <a:off x="1260360" y="426960"/>
            <a:ext cx="5978520" cy="0"/>
          </a:xfrm>
          <a:prstGeom prst="line">
            <a:avLst/>
          </a:prstGeom>
          <a:ln w="25560">
            <a:solidFill>
              <a:srgbClr val="10c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Прямая соединительная линия 11"/>
          <p:cNvSpPr/>
          <p:nvPr/>
        </p:nvSpPr>
        <p:spPr>
          <a:xfrm>
            <a:off x="1260360" y="1020600"/>
            <a:ext cx="5978520" cy="0"/>
          </a:xfrm>
          <a:prstGeom prst="line">
            <a:avLst/>
          </a:prstGeom>
          <a:ln w="25560">
            <a:solidFill>
              <a:srgbClr val="10c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Номер слайда 2"/>
          <p:cNvSpPr/>
          <p:nvPr/>
        </p:nvSpPr>
        <p:spPr>
          <a:xfrm>
            <a:off x="8585280" y="6356520"/>
            <a:ext cx="82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5FB69-2723-4596-90E4-01C91CC0781C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3" name="Рисунок 8" descr=""/>
          <p:cNvPicPr/>
          <p:nvPr/>
        </p:nvPicPr>
        <p:blipFill>
          <a:blip r:embed="rId2"/>
          <a:stretch/>
        </p:blipFill>
        <p:spPr>
          <a:xfrm>
            <a:off x="387360" y="250920"/>
            <a:ext cx="784080" cy="97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object 41"/>
          <p:cNvSpPr/>
          <p:nvPr/>
        </p:nvSpPr>
        <p:spPr>
          <a:xfrm>
            <a:off x="3975120" y="2463840"/>
            <a:ext cx="24444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1520" bIns="0" anchor="t">
            <a:spAutoFit/>
          </a:bodyPr>
          <a:p>
            <a:pPr marL="11160">
              <a:lnSpc>
                <a:spcPct val="10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53640" y="158760"/>
            <a:ext cx="8085240" cy="62712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b">
            <a:noAutofit/>
          </a:bodyPr>
          <a:p>
            <a:pPr marL="11160" indent="0" algn="ctr">
              <a:lnSpc>
                <a:spcPct val="100000"/>
              </a:lnSpc>
              <a:spcBef>
                <a:spcPts val="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нцепция Комплексного плана социально-экономического развития Кызылского кожууна Республики Тыва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rebuchet MS"/>
              </a:rPr>
              <a:t>на 2019-2022 годы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Номер слайда 8"/>
          <p:cNvSpPr/>
          <p:nvPr/>
        </p:nvSpPr>
        <p:spPr>
          <a:xfrm>
            <a:off x="9443880" y="6465960"/>
            <a:ext cx="812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35E0F-2515-41AF-AF3B-10F0A952E805}" type="slidenum">
              <a:rPr b="0" lang="ru-RU" sz="16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4"/>
          <p:cNvSpPr/>
          <p:nvPr/>
        </p:nvSpPr>
        <p:spPr>
          <a:xfrm>
            <a:off x="147600" y="246240"/>
            <a:ext cx="3519360" cy="7057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09600" indent="-309600" algn="just">
              <a:lnSpc>
                <a:spcPct val="100000"/>
              </a:lnSpc>
              <a:buClr>
                <a:srgbClr val="000000"/>
              </a:buClr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onstantia"/>
              </a:rPr>
              <a:t>Снятие инфраструктурных ограничений в 20220-2022 гг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9600" indent="-30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Снятие транспортных ограничений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(Начало строительства железной дороги Кызыл-Курагино с пассажирским сообщением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9600" indent="-309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Снятие энергетических ограничений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(создание цифрового района электрических сетей и новой цифровой подстанции в пгт. Каа-Хем, Реконструкция 2 котельных в с. Сукпак и с. Целинное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9600" indent="-309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i="1" lang="ru-RU" sz="1600" spc="-1" strike="noStrike">
                <a:solidFill>
                  <a:srgbClr val="000000"/>
                </a:solidFill>
                <a:latin typeface="Constantia"/>
              </a:rPr>
              <a:t>Экономический эффект от реализации будет достигнут в 2020-2022 гг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9600" indent="-30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Обеспечит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9600" indent="-3096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ыход на проектную мощность действующих проектов (ООО «ТГРК», ЗАО «ТЭПК»)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9600" indent="-3096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овлечение в хозяйственный оборот природно-ресурсного потенциала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Box 16"/>
          <p:cNvSpPr/>
          <p:nvPr/>
        </p:nvSpPr>
        <p:spPr>
          <a:xfrm>
            <a:off x="3706920" y="825480"/>
            <a:ext cx="6051600" cy="2527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09600" indent="-309600">
              <a:lnSpc>
                <a:spcPct val="100000"/>
              </a:lnSpc>
              <a:buClr>
                <a:srgbClr val="000000"/>
              </a:buClr>
              <a:buFont typeface="Constanti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onstantia"/>
              </a:rPr>
              <a:t>Развитие реального  сектора экономики  2020-2022 гг.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9600" indent="-3096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Прямые инвестиции в сельское хозяйство и в сферу переработки (кожевенное производство, переработка шерсти, переработка дикоросов, переработка молока), увеличение господдержк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9600" indent="-3096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Развитие отрасли строительства и строительных материалов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9600" indent="-3096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Развитие МСП, увеличение господдержк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9600" indent="-3096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Прямые инвестиции в инфраструктуру туризм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Box 9"/>
          <p:cNvSpPr/>
          <p:nvPr/>
        </p:nvSpPr>
        <p:spPr>
          <a:xfrm>
            <a:off x="3706920" y="3141720"/>
            <a:ext cx="6070320" cy="3744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onstantia"/>
              </a:rPr>
              <a:t>3)   Развитие человеческого капитала 2020-2022 гг.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Здравоохранение, физическая культура и спорт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Строительство объектов первичной медико-санитарной помощ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Строительство ФОК и плоскостных спортивных сооружений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Стимулирующие выплаты семьям при рождении третьего и последующих детей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Образование, Культура и Наук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Строительство 1 объектов дошкольного, 2 общего образования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Строительство 2 сельских домов культуры, Спортивного культурного комплекс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Создание условий для встраивания в экономически активное населени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object 41"/>
          <p:cNvSpPr/>
          <p:nvPr/>
        </p:nvSpPr>
        <p:spPr>
          <a:xfrm>
            <a:off x="3975120" y="2463840"/>
            <a:ext cx="24444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1520" bIns="0" anchor="t">
            <a:spAutoFit/>
          </a:bodyPr>
          <a:p>
            <a:pPr marL="11160">
              <a:lnSpc>
                <a:spcPct val="10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22040" y="158760"/>
            <a:ext cx="8016840" cy="62712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b">
            <a:noAutofit/>
          </a:bodyPr>
          <a:p>
            <a:pPr marL="11160" indent="0" algn="ctr">
              <a:lnSpc>
                <a:spcPct val="100000"/>
              </a:lnSpc>
              <a:spcBef>
                <a:spcPts val="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нцепция Комплексного плана социально-экономического развития Кызылского кожууна Республики Тыва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rebuchet MS"/>
              </a:rPr>
              <a:t>на 2019-2022 годы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Номер слайда 8"/>
          <p:cNvSpPr/>
          <p:nvPr/>
        </p:nvSpPr>
        <p:spPr>
          <a:xfrm>
            <a:off x="9443880" y="6465960"/>
            <a:ext cx="812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43F9A-4584-456C-BE51-2F26279B849D}" type="slidenum">
              <a:rPr b="0" lang="ru-RU" sz="16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10"/>
          <p:cNvSpPr/>
          <p:nvPr/>
        </p:nvSpPr>
        <p:spPr>
          <a:xfrm>
            <a:off x="187200" y="2163600"/>
            <a:ext cx="3922920" cy="314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Рост ВВП более чем 16 %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до 2215,9  млн. рублей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8840" indent="-25884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Увеличение налоговых поступлений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до </a:t>
            </a:r>
            <a:r>
              <a:rPr b="1" lang="ru-RU" sz="2000" spc="-1" strike="noStrike">
                <a:solidFill>
                  <a:srgbClr val="ff0000"/>
                </a:solidFill>
                <a:latin typeface="Constantia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 млрд. руб.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ежегодно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8840" indent="-25884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ирост населения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на 2,3 тыс. чел., или 7%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8840" indent="-25884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одолжительность жизни при рождении –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69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Box 11"/>
          <p:cNvSpPr/>
          <p:nvPr/>
        </p:nvSpPr>
        <p:spPr>
          <a:xfrm>
            <a:off x="4552920" y="2171880"/>
            <a:ext cx="4900680" cy="314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Рост уровня образования и качества трудовых ресурсов на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8,3 %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8840" indent="-25884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оздание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до 350 новых рабочих мест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8840" indent="-25884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Увеличение объема инвестиций в основной капитал до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300 млн. рублей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8840" indent="-25884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нижение бедности до среднероссийского уровн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Box 12"/>
          <p:cNvSpPr/>
          <p:nvPr/>
        </p:nvSpPr>
        <p:spPr>
          <a:xfrm>
            <a:off x="217440" y="1360440"/>
            <a:ext cx="915372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89ca3"/>
                </a:solidFill>
                <a:uFillTx/>
                <a:latin typeface="Constantia"/>
              </a:rPr>
              <a:t>Экономический эффект от реализации Комплексного план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Box 13"/>
          <p:cNvSpPr/>
          <p:nvPr/>
        </p:nvSpPr>
        <p:spPr>
          <a:xfrm>
            <a:off x="372960" y="5391000"/>
            <a:ext cx="9139320" cy="131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onstantia"/>
              </a:rPr>
              <a:t>Будут созданы условия для развития человеческого капитала и полномасштабной реализации Комплексного плана социально-экономического развития Кызылского кожууна Республики Тыв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Прямоугольник 3"/>
          <p:cNvSpPr/>
          <p:nvPr/>
        </p:nvSpPr>
        <p:spPr>
          <a:xfrm>
            <a:off x="3587760" y="363600"/>
            <a:ext cx="775476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ЕМОГРАФ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Box 1"/>
          <p:cNvSpPr/>
          <p:nvPr/>
        </p:nvSpPr>
        <p:spPr>
          <a:xfrm>
            <a:off x="1851120" y="1220760"/>
            <a:ext cx="58179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а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ть на 3 года продолжительность жизни населения с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6,5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ет в 2018 году до 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9,5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ет к 2022 году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0" name="Группа 10"/>
          <p:cNvGrpSpPr/>
          <p:nvPr/>
        </p:nvGrpSpPr>
        <p:grpSpPr>
          <a:xfrm>
            <a:off x="1192320" y="363600"/>
            <a:ext cx="4789440" cy="593640"/>
            <a:chOff x="1192320" y="363600"/>
            <a:chExt cx="4789440" cy="593640"/>
          </a:xfrm>
        </p:grpSpPr>
        <p:sp>
          <p:nvSpPr>
            <p:cNvPr id="221" name="Text Box 2"/>
            <p:cNvSpPr/>
            <p:nvPr/>
          </p:nvSpPr>
          <p:spPr>
            <a:xfrm>
              <a:off x="1192680" y="363600"/>
              <a:ext cx="478908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Социально-экономические показатели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Прямая соединительная линия 8"/>
            <p:cNvSpPr/>
            <p:nvPr/>
          </p:nvSpPr>
          <p:spPr>
            <a:xfrm>
              <a:off x="1192320" y="363600"/>
              <a:ext cx="4440240" cy="0"/>
            </a:xfrm>
            <a:prstGeom prst="line">
              <a:avLst/>
            </a:prstGeom>
            <a:ln w="25560">
              <a:solidFill>
                <a:srgbClr val="10cf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Прямая соединительная линия 9"/>
            <p:cNvSpPr/>
            <p:nvPr/>
          </p:nvSpPr>
          <p:spPr>
            <a:xfrm>
              <a:off x="1192320" y="957240"/>
              <a:ext cx="4440240" cy="0"/>
            </a:xfrm>
            <a:prstGeom prst="line">
              <a:avLst/>
            </a:prstGeom>
            <a:ln w="25560">
              <a:solidFill>
                <a:srgbClr val="10cf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24" name="Диаграмма 13" descr=""/>
          <p:cNvPicPr/>
          <p:nvPr/>
        </p:nvPicPr>
        <p:blipFill>
          <a:blip r:embed="rId1"/>
          <a:stretch/>
        </p:blipFill>
        <p:spPr>
          <a:xfrm>
            <a:off x="-6480" y="2146320"/>
            <a:ext cx="9918720" cy="4546440"/>
          </a:xfrm>
          <a:prstGeom prst="rect">
            <a:avLst/>
          </a:prstGeom>
          <a:ln w="0">
            <a:noFill/>
          </a:ln>
        </p:spPr>
      </p:pic>
      <p:sp>
        <p:nvSpPr>
          <p:cNvPr id="225" name="Номер слайда 4"/>
          <p:cNvSpPr/>
          <p:nvPr/>
        </p:nvSpPr>
        <p:spPr>
          <a:xfrm>
            <a:off x="8585280" y="6356520"/>
            <a:ext cx="82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C44A6-0275-457F-9DB5-928340342B54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Рисунок 15" descr=""/>
          <p:cNvPicPr/>
          <p:nvPr/>
        </p:nvPicPr>
        <p:blipFill>
          <a:blip r:embed="rId2"/>
          <a:stretch/>
        </p:blipFill>
        <p:spPr>
          <a:xfrm>
            <a:off x="349200" y="174600"/>
            <a:ext cx="784440" cy="97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3"/>
          <p:cNvSpPr/>
          <p:nvPr/>
        </p:nvSpPr>
        <p:spPr>
          <a:xfrm>
            <a:off x="3587760" y="363600"/>
            <a:ext cx="775476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ЕМОГРАФ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8" name="Группа 10"/>
          <p:cNvGrpSpPr/>
          <p:nvPr/>
        </p:nvGrpSpPr>
        <p:grpSpPr>
          <a:xfrm>
            <a:off x="1192320" y="363600"/>
            <a:ext cx="4789440" cy="593640"/>
            <a:chOff x="1192320" y="363600"/>
            <a:chExt cx="4789440" cy="593640"/>
          </a:xfrm>
        </p:grpSpPr>
        <p:sp>
          <p:nvSpPr>
            <p:cNvPr id="229" name="Text Box 2"/>
            <p:cNvSpPr/>
            <p:nvPr/>
          </p:nvSpPr>
          <p:spPr>
            <a:xfrm>
              <a:off x="1192680" y="363600"/>
              <a:ext cx="478908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Социально-экономические показатели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Прямая соединительная линия 8"/>
            <p:cNvSpPr/>
            <p:nvPr/>
          </p:nvSpPr>
          <p:spPr>
            <a:xfrm>
              <a:off x="1192320" y="363600"/>
              <a:ext cx="4440240" cy="0"/>
            </a:xfrm>
            <a:prstGeom prst="line">
              <a:avLst/>
            </a:prstGeom>
            <a:ln w="25560">
              <a:solidFill>
                <a:srgbClr val="10cf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Прямая соединительная линия 9"/>
            <p:cNvSpPr/>
            <p:nvPr/>
          </p:nvSpPr>
          <p:spPr>
            <a:xfrm>
              <a:off x="1192320" y="957240"/>
              <a:ext cx="4440240" cy="0"/>
            </a:xfrm>
            <a:prstGeom prst="line">
              <a:avLst/>
            </a:prstGeom>
            <a:ln w="25560">
              <a:solidFill>
                <a:srgbClr val="10cf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32" name="Диаграмма 12" descr=""/>
          <p:cNvPicPr/>
          <p:nvPr/>
        </p:nvPicPr>
        <p:blipFill>
          <a:blip r:embed="rId1"/>
          <a:stretch/>
        </p:blipFill>
        <p:spPr>
          <a:xfrm>
            <a:off x="-6480" y="2852640"/>
            <a:ext cx="9918720" cy="40118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6" descr="http://www.sholban.ru/images/slider/1.jpg"/>
          <p:cNvPicPr/>
          <p:nvPr/>
        </p:nvPicPr>
        <p:blipFill>
          <a:blip r:embed="rId2"/>
          <a:stretch/>
        </p:blipFill>
        <p:spPr>
          <a:xfrm>
            <a:off x="3300480" y="765000"/>
            <a:ext cx="3071880" cy="2233800"/>
          </a:xfrm>
          <a:prstGeom prst="rect">
            <a:avLst/>
          </a:prstGeom>
          <a:ln w="0">
            <a:noFill/>
          </a:ln>
        </p:spPr>
      </p:pic>
      <p:sp>
        <p:nvSpPr>
          <p:cNvPr id="234" name="Номер слайда 4"/>
          <p:cNvSpPr/>
          <p:nvPr/>
        </p:nvSpPr>
        <p:spPr>
          <a:xfrm>
            <a:off x="8585280" y="6356520"/>
            <a:ext cx="82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C1958-A047-4053-B2D1-B62C691F477E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Рисунок 15" descr=""/>
          <p:cNvPicPr/>
          <p:nvPr/>
        </p:nvPicPr>
        <p:blipFill>
          <a:blip r:embed="rId3"/>
          <a:stretch/>
        </p:blipFill>
        <p:spPr>
          <a:xfrm>
            <a:off x="349200" y="174600"/>
            <a:ext cx="784440" cy="97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Прямоугольник 11"/>
          <p:cNvSpPr/>
          <p:nvPr/>
        </p:nvSpPr>
        <p:spPr>
          <a:xfrm>
            <a:off x="11498400" y="3720960"/>
            <a:ext cx="63648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нятость насел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extBox 1"/>
          <p:cNvSpPr/>
          <p:nvPr/>
        </p:nvSpPr>
        <p:spPr>
          <a:xfrm>
            <a:off x="1031760" y="5337000"/>
            <a:ext cx="8269560" cy="1310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►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заняты в экономике  в 2018 году: 16963 человек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за 2017 год – 16850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►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ализована деятельность в 2018 году:  504 че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за 2017 год – 354  чел.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8" name="Группа 9"/>
          <p:cNvGrpSpPr/>
          <p:nvPr/>
        </p:nvGrpSpPr>
        <p:grpSpPr>
          <a:xfrm>
            <a:off x="1060560" y="270000"/>
            <a:ext cx="4813200" cy="593640"/>
            <a:chOff x="1060560" y="270000"/>
            <a:chExt cx="4813200" cy="593640"/>
          </a:xfrm>
        </p:grpSpPr>
        <p:sp>
          <p:nvSpPr>
            <p:cNvPr id="239" name="Text Box 2"/>
            <p:cNvSpPr/>
            <p:nvPr/>
          </p:nvSpPr>
          <p:spPr>
            <a:xfrm>
              <a:off x="1060560" y="270000"/>
              <a:ext cx="481320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Социально-экономические показатели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Прямая соединительная линия 10"/>
            <p:cNvSpPr/>
            <p:nvPr/>
          </p:nvSpPr>
          <p:spPr>
            <a:xfrm>
              <a:off x="1060560" y="270000"/>
              <a:ext cx="4708440" cy="0"/>
            </a:xfrm>
            <a:prstGeom prst="line">
              <a:avLst/>
            </a:prstGeom>
            <a:ln w="25560">
              <a:solidFill>
                <a:srgbClr val="10cf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Прямая соединительная линия 11"/>
            <p:cNvSpPr/>
            <p:nvPr/>
          </p:nvSpPr>
          <p:spPr>
            <a:xfrm>
              <a:off x="1060560" y="863640"/>
              <a:ext cx="4708440" cy="0"/>
            </a:xfrm>
            <a:prstGeom prst="line">
              <a:avLst/>
            </a:prstGeom>
            <a:ln w="25560">
              <a:solidFill>
                <a:srgbClr val="10cf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42" name="Диаграмма 12" descr=""/>
          <p:cNvPicPr/>
          <p:nvPr/>
        </p:nvPicPr>
        <p:blipFill>
          <a:blip r:embed="rId1"/>
          <a:stretch/>
        </p:blipFill>
        <p:spPr>
          <a:xfrm>
            <a:off x="171360" y="1073160"/>
            <a:ext cx="9522000" cy="3956040"/>
          </a:xfrm>
          <a:prstGeom prst="rect">
            <a:avLst/>
          </a:prstGeom>
          <a:ln w="0">
            <a:noFill/>
          </a:ln>
        </p:spPr>
      </p:pic>
      <p:sp>
        <p:nvSpPr>
          <p:cNvPr id="243" name="Прямоугольник 14"/>
          <p:cNvSpPr/>
          <p:nvPr/>
        </p:nvSpPr>
        <p:spPr>
          <a:xfrm>
            <a:off x="6143760" y="361800"/>
            <a:ext cx="337968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НЯТОСТЬ НАСЕЛЕНИ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Номер слайда 3"/>
          <p:cNvSpPr/>
          <p:nvPr/>
        </p:nvSpPr>
        <p:spPr>
          <a:xfrm>
            <a:off x="8585280" y="6356520"/>
            <a:ext cx="82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EAD08-D7E2-439E-AE10-AFC2138D09A9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Рисунок 15" descr=""/>
          <p:cNvPicPr/>
          <p:nvPr/>
        </p:nvPicPr>
        <p:blipFill>
          <a:blip r:embed="rId2"/>
          <a:stretch/>
        </p:blipFill>
        <p:spPr>
          <a:xfrm>
            <a:off x="196920" y="146160"/>
            <a:ext cx="784080" cy="97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Прямоугольник 11"/>
          <p:cNvSpPr/>
          <p:nvPr/>
        </p:nvSpPr>
        <p:spPr>
          <a:xfrm>
            <a:off x="11498400" y="3720960"/>
            <a:ext cx="63648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нятость насел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7" name="Группа 9"/>
          <p:cNvGrpSpPr/>
          <p:nvPr/>
        </p:nvGrpSpPr>
        <p:grpSpPr>
          <a:xfrm>
            <a:off x="1060560" y="270000"/>
            <a:ext cx="4813200" cy="593640"/>
            <a:chOff x="1060560" y="270000"/>
            <a:chExt cx="4813200" cy="593640"/>
          </a:xfrm>
        </p:grpSpPr>
        <p:sp>
          <p:nvSpPr>
            <p:cNvPr id="248" name="Text Box 2"/>
            <p:cNvSpPr/>
            <p:nvPr/>
          </p:nvSpPr>
          <p:spPr>
            <a:xfrm>
              <a:off x="1060560" y="270000"/>
              <a:ext cx="481320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Социально-экономические показатели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Прямая соединительная линия 10"/>
            <p:cNvSpPr/>
            <p:nvPr/>
          </p:nvSpPr>
          <p:spPr>
            <a:xfrm>
              <a:off x="1060560" y="270000"/>
              <a:ext cx="4708440" cy="0"/>
            </a:xfrm>
            <a:prstGeom prst="line">
              <a:avLst/>
            </a:prstGeom>
            <a:ln w="25560">
              <a:solidFill>
                <a:srgbClr val="10cf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Прямая соединительная линия 11"/>
            <p:cNvSpPr/>
            <p:nvPr/>
          </p:nvSpPr>
          <p:spPr>
            <a:xfrm>
              <a:off x="1060560" y="863640"/>
              <a:ext cx="4708440" cy="0"/>
            </a:xfrm>
            <a:prstGeom prst="line">
              <a:avLst/>
            </a:prstGeom>
            <a:ln w="25560">
              <a:solidFill>
                <a:srgbClr val="10cf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51" name="Диаграмма 13" descr=""/>
          <p:cNvPicPr/>
          <p:nvPr/>
        </p:nvPicPr>
        <p:blipFill>
          <a:blip r:embed="rId1"/>
          <a:stretch/>
        </p:blipFill>
        <p:spPr>
          <a:xfrm>
            <a:off x="566640" y="3206880"/>
            <a:ext cx="8985240" cy="35049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6" descr="https://i.pinimg.com/originals/dd/0f/9f/dd0f9f269132c747aef5d73a24015329.jpg"/>
          <p:cNvPicPr/>
          <p:nvPr/>
        </p:nvPicPr>
        <p:blipFill>
          <a:blip r:embed="rId2"/>
          <a:stretch/>
        </p:blipFill>
        <p:spPr>
          <a:xfrm>
            <a:off x="2965320" y="1000080"/>
            <a:ext cx="3443400" cy="2205000"/>
          </a:xfrm>
          <a:prstGeom prst="rect">
            <a:avLst/>
          </a:prstGeom>
          <a:ln w="0">
            <a:noFill/>
          </a:ln>
        </p:spPr>
      </p:pic>
      <p:sp>
        <p:nvSpPr>
          <p:cNvPr id="253" name="Прямоугольник 14"/>
          <p:cNvSpPr/>
          <p:nvPr/>
        </p:nvSpPr>
        <p:spPr>
          <a:xfrm>
            <a:off x="6143760" y="361800"/>
            <a:ext cx="337968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НЯТОСТЬ НАСЕЛЕНИ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Номер слайда 3"/>
          <p:cNvSpPr/>
          <p:nvPr/>
        </p:nvSpPr>
        <p:spPr>
          <a:xfrm>
            <a:off x="8585280" y="6356520"/>
            <a:ext cx="82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ABAAF-DC47-4483-BADC-86CF0C07E80F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5" name="Рисунок 15" descr=""/>
          <p:cNvPicPr/>
          <p:nvPr/>
        </p:nvPicPr>
        <p:blipFill>
          <a:blip r:embed="rId3"/>
          <a:stretch/>
        </p:blipFill>
        <p:spPr>
          <a:xfrm>
            <a:off x="196920" y="146160"/>
            <a:ext cx="784080" cy="97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роекты Здравоохранения, образования, спорта и культуры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Номер слайда 3"/>
          <p:cNvSpPr/>
          <p:nvPr/>
        </p:nvSpPr>
        <p:spPr>
          <a:xfrm>
            <a:off x="8585280" y="6356520"/>
            <a:ext cx="82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22514-0A02-4B9A-9906-51548784FD11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Группа 10"/>
          <p:cNvGrpSpPr/>
          <p:nvPr/>
        </p:nvGrpSpPr>
        <p:grpSpPr>
          <a:xfrm>
            <a:off x="1344600" y="426960"/>
            <a:ext cx="4789440" cy="593640"/>
            <a:chOff x="1344600" y="426960"/>
            <a:chExt cx="4789440" cy="593640"/>
          </a:xfrm>
        </p:grpSpPr>
        <p:sp>
          <p:nvSpPr>
            <p:cNvPr id="260" name="Text Box 2"/>
            <p:cNvSpPr/>
            <p:nvPr/>
          </p:nvSpPr>
          <p:spPr>
            <a:xfrm>
              <a:off x="1344960" y="426960"/>
              <a:ext cx="478908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Социально-экономические показатели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Прямая соединительная линия 12"/>
            <p:cNvSpPr/>
            <p:nvPr/>
          </p:nvSpPr>
          <p:spPr>
            <a:xfrm>
              <a:off x="1344600" y="426960"/>
              <a:ext cx="4440240" cy="0"/>
            </a:xfrm>
            <a:prstGeom prst="line">
              <a:avLst/>
            </a:prstGeom>
            <a:ln w="25560">
              <a:solidFill>
                <a:srgbClr val="10cf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Прямая соединительная линия 13"/>
            <p:cNvSpPr/>
            <p:nvPr/>
          </p:nvSpPr>
          <p:spPr>
            <a:xfrm>
              <a:off x="1344600" y="1020600"/>
              <a:ext cx="4440240" cy="0"/>
            </a:xfrm>
            <a:prstGeom prst="line">
              <a:avLst/>
            </a:prstGeom>
            <a:ln w="25560">
              <a:solidFill>
                <a:srgbClr val="10cf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63" name="Диаграмма 10" descr=""/>
          <p:cNvPicPr/>
          <p:nvPr/>
        </p:nvPicPr>
        <p:blipFill>
          <a:blip r:embed="rId1"/>
          <a:stretch/>
        </p:blipFill>
        <p:spPr>
          <a:xfrm>
            <a:off x="109440" y="1096920"/>
            <a:ext cx="9650520" cy="4572000"/>
          </a:xfrm>
          <a:prstGeom prst="rect">
            <a:avLst/>
          </a:prstGeom>
          <a:ln w="0">
            <a:noFill/>
          </a:ln>
        </p:spPr>
      </p:pic>
      <p:sp>
        <p:nvSpPr>
          <p:cNvPr id="264" name="Прямоугольник 11"/>
          <p:cNvSpPr/>
          <p:nvPr/>
        </p:nvSpPr>
        <p:spPr>
          <a:xfrm>
            <a:off x="6033960" y="255600"/>
            <a:ext cx="387216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АЛОВОЙ ВНУТРЕННИЙ ПРОДУК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Прямоугольник 8"/>
          <p:cNvSpPr/>
          <p:nvPr/>
        </p:nvSpPr>
        <p:spPr>
          <a:xfrm>
            <a:off x="628560" y="5711760"/>
            <a:ext cx="8761680" cy="895320"/>
          </a:xfrm>
          <a:prstGeom prst="rect">
            <a:avLst/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2428"/>
                </a:solidFill>
                <a:latin typeface="Times New Roman"/>
                <a:ea typeface="Times New Roman"/>
              </a:rPr>
              <a:t>По Кызылскому кожууну ВВП на душу населения составляет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2428"/>
                </a:solidFill>
                <a:latin typeface="Times New Roman"/>
                <a:ea typeface="Times New Roman"/>
              </a:rPr>
              <a:t>60,75 </a:t>
            </a:r>
            <a:r>
              <a:rPr b="0" lang="ru-RU" sz="1800" spc="-1" strike="noStrike">
                <a:solidFill>
                  <a:srgbClr val="072428"/>
                </a:solidFill>
                <a:latin typeface="Times New Roman"/>
                <a:ea typeface="Times New Roman"/>
              </a:rPr>
              <a:t>тысяч рублей</a:t>
            </a:r>
            <a:r>
              <a:rPr b="1" lang="ru-RU" sz="1800" spc="-1" strike="noStrike">
                <a:solidFill>
                  <a:srgbClr val="072428"/>
                </a:solidFill>
                <a:latin typeface="Times New Roman"/>
                <a:ea typeface="Times New Roman"/>
              </a:rPr>
              <a:t>,</a:t>
            </a:r>
            <a:r>
              <a:rPr b="0" lang="ru-RU" sz="1800" spc="-1" strike="noStrike">
                <a:solidFill>
                  <a:srgbClr val="072428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2428"/>
                </a:solidFill>
                <a:latin typeface="Times New Roman"/>
                <a:ea typeface="Times New Roman"/>
              </a:rPr>
              <a:t>по Республике Тыва – </a:t>
            </a:r>
            <a:r>
              <a:rPr b="1" lang="ru-RU" sz="1800" spc="-1" strike="noStrike">
                <a:solidFill>
                  <a:srgbClr val="072428"/>
                </a:solidFill>
                <a:latin typeface="Times New Roman"/>
                <a:ea typeface="Times New Roman"/>
              </a:rPr>
              <a:t>184,6</a:t>
            </a:r>
            <a:r>
              <a:rPr b="0" lang="ru-RU" sz="1800" spc="-1" strike="noStrike">
                <a:solidFill>
                  <a:srgbClr val="072428"/>
                </a:solidFill>
                <a:latin typeface="Times New Roman"/>
                <a:ea typeface="Times New Roman"/>
              </a:rPr>
              <a:t> тыс.рублей, по России - </a:t>
            </a:r>
            <a:r>
              <a:rPr b="1" lang="ru-RU" sz="1800" spc="-1" strike="noStrike">
                <a:solidFill>
                  <a:srgbClr val="072428"/>
                </a:solidFill>
                <a:latin typeface="Times New Roman"/>
                <a:ea typeface="Times New Roman"/>
              </a:rPr>
              <a:t>510 </a:t>
            </a:r>
            <a:r>
              <a:rPr b="0" lang="ru-RU" sz="1800" spc="-1" strike="noStrike">
                <a:solidFill>
                  <a:srgbClr val="072428"/>
                </a:solidFill>
                <a:latin typeface="Times New Roman"/>
                <a:ea typeface="Times New Roman"/>
              </a:rPr>
              <a:t>тысяч рубл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Номер слайда 2"/>
          <p:cNvSpPr/>
          <p:nvPr/>
        </p:nvSpPr>
        <p:spPr>
          <a:xfrm>
            <a:off x="8585280" y="6356520"/>
            <a:ext cx="82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78894-3362-4073-9518-9D3C9A4868AB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7" name="Рисунок 11" descr=""/>
          <p:cNvPicPr/>
          <p:nvPr/>
        </p:nvPicPr>
        <p:blipFill>
          <a:blip r:embed="rId2"/>
          <a:stretch/>
        </p:blipFill>
        <p:spPr>
          <a:xfrm>
            <a:off x="444600" y="270000"/>
            <a:ext cx="784080" cy="97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1T08:10:04Z</dcterms:created>
  <dc:creator>Ощепков Александр Леонидович</dc:creator>
  <dc:description/>
  <dc:language>en-US</dc:language>
  <cp:lastModifiedBy>Sedipovna</cp:lastModifiedBy>
  <cp:lastPrinted>2019-11-11T13:22:37Z</cp:lastPrinted>
  <dcterms:modified xsi:type="dcterms:W3CDTF">2019-12-20T09:39:28Z</dcterms:modified>
  <cp:revision>390</cp:revision>
  <dc:subject/>
  <dc:title>Презентация PowerPoint</dc:title>
</cp:coreProperties>
</file>